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920-F778-41F3-A763-F4BFE40F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18B-012D-4F8C-A2F1-0F7E3BE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9DB-81D6-45E6-9869-E701F5EE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5C2-B82C-4575-96A3-0B1F60E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A60-3309-43C3-907B-A082BA29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9D23-90FA-4B00-BF08-5782239C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E472-CBAB-443C-9F87-4D2E3A0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853-0F88-4098-BB43-44F31CC5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3B15-4E35-457F-8CAF-93867C9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B03-1C63-4CD4-ACEF-DD0779C1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CA97-DC12-4735-829D-85991BBC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BF6-B247-4770-B408-CF1D4604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A109-62ED-4576-9818-112978AC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C548-A468-4A7F-BAB1-69B61E6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B357-4434-4C94-B646-71E45D9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F58-56FC-4C67-9AD4-4A2107C0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9413-1674-490A-98FF-B63D7FBE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136-7A98-443D-B0E3-C236867D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ECF-9DE1-4EBE-A707-43516A3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E5C-8673-4CC0-985A-5326CC1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520-287C-4360-8C6E-07A2E45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9B5-0344-45E9-B2C2-4205597F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E8B-6B8C-41F0-B952-EFE884C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DB6-056B-46D8-B0C7-A4546EE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E8D-CC49-437D-8924-93CE7E800F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17F-9028-4AB7-ABFA-B06BD9D67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2860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13/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60948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the homework you worked on last night and the achievements of the Muslims.  Answer the following question in the first 4 minu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28600" y="403848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ich Muslim achievement was or is the most important as far as its impact on the world and history?  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7" descr="al-jabr"/>
          <p:cNvPicPr/>
          <p:nvPr/>
        </p:nvPicPr>
        <p:blipFill>
          <a:blip r:embed="rId1"/>
          <a:stretch/>
        </p:blipFill>
        <p:spPr>
          <a:xfrm>
            <a:off x="6019920" y="380880"/>
            <a:ext cx="272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3T11:57:54Z</dcterms:modified>
  <cp:revision>12</cp:revision>
  <dc:subject/>
  <dc:title>Slide 1</dc:title>
</cp:coreProperties>
</file>